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46439-80B4-4D9E-8C79-DB451A2ABE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45207-28E4-4AE5-89B6-3DE7EAE07B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C5127-6DE3-4903-9778-684880C3A7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574A-8167-43BC-A4CF-B3D5C3DFB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C5FF-E8D2-4192-804A-DAD1A5432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499D-A08F-486C-AEE8-AE731D25C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FFCD-B787-4BE0-9590-0215DEA24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564D-0D65-45A4-A08C-5FE091EA9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5239-2760-4D2A-890B-295A84E3F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C722-1834-4F4E-81E1-97A54510A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CA04-9B13-4976-BE49-C821A3733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679D-6DDA-4247-91C5-E371A8A24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495B-1013-4F68-BDB1-7F64A2214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C141-E8E4-498F-A8D6-AE1BFDAF8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C667-EEBE-4C7E-AB35-CA55385DB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96A35-424F-4989-8E8D-E83C8F2070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 FAMILLE</a:t>
            </a:r>
            <a:br>
              <a:rPr sz="4400"/>
            </a:br>
            <a:r>
              <a:rPr b="1" lang="es-ES_tradnl" sz="4400" spc="-1" strike="noStrike" baseline="-25000">
                <a:solidFill>
                  <a:srgbClr val="0087ff"/>
                </a:solidFill>
                <a:latin typeface="Georgia"/>
              </a:rPr>
              <a:t>ARBRE GENEALOGIQUE DE LA FAMILLE SIMPS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1"/>
          <a:stretch/>
        </p:blipFill>
        <p:spPr>
          <a:xfrm>
            <a:off x="2057400" y="2193840"/>
            <a:ext cx="4724280" cy="42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s par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ge est la femme (la épouse) de Hom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r est le mari (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époux) de Mar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l sont les parents de Bart, Lisa et Magg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l sont 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cle et la tante de 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5" descr=""/>
          <p:cNvPicPr/>
          <p:nvPr/>
        </p:nvPicPr>
        <p:blipFill>
          <a:blip r:embed="rId1"/>
          <a:stretch/>
        </p:blipFill>
        <p:spPr>
          <a:xfrm>
            <a:off x="4768920" y="1981080"/>
            <a:ext cx="35686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 fils   --  le petit-fi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rt est le fils de Marge et Hom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rt est le petit-fils de Abe et Mona Simp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rt est le petit-fils de Clancy et Jack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6" descr=""/>
          <p:cNvPicPr/>
          <p:nvPr/>
        </p:nvPicPr>
        <p:blipFill>
          <a:blip r:embed="rId1"/>
          <a:stretch/>
        </p:blipFill>
        <p:spPr>
          <a:xfrm>
            <a:off x="685800" y="2571840"/>
            <a:ext cx="3809880" cy="29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 fil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a est la fille de  Marge et Hom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a est la petite-fille de Mona et A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a est la petite-fille de Clancy et Jackie auss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6" descr=""/>
          <p:cNvPicPr/>
          <p:nvPr/>
        </p:nvPicPr>
        <p:blipFill>
          <a:blip r:embed="rId1"/>
          <a:stretch/>
        </p:blipFill>
        <p:spPr>
          <a:xfrm>
            <a:off x="1177920" y="1981080"/>
            <a:ext cx="2824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 sœu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ggie est la sœur de Bart et de Li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a est la sœur de Maggie et de B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ggie et Lisa sont des sœu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6" descr=""/>
          <p:cNvPicPr/>
          <p:nvPr/>
        </p:nvPicPr>
        <p:blipFill>
          <a:blip r:embed="rId1"/>
          <a:stretch/>
        </p:blipFill>
        <p:spPr>
          <a:xfrm>
            <a:off x="685800" y="2286000"/>
            <a:ext cx="38098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 frer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rt est le frere de Li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rt est le frere de Magg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rt, Maggie y Lisa son frere et sœu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6" descr=""/>
          <p:cNvPicPr/>
          <p:nvPr/>
        </p:nvPicPr>
        <p:blipFill>
          <a:blip r:embed="rId1"/>
          <a:stretch/>
        </p:blipFill>
        <p:spPr>
          <a:xfrm>
            <a:off x="685800" y="2355840"/>
            <a:ext cx="3809880" cy="33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c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b est l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le de B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b es l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le de Maggie et de Li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b est le frere de Ho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b 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as de fem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b est le fils de Abe et M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5" descr=""/>
          <p:cNvPicPr/>
          <p:nvPr/>
        </p:nvPicPr>
        <p:blipFill>
          <a:blip r:embed="rId1"/>
          <a:stretch/>
        </p:blipFill>
        <p:spPr>
          <a:xfrm>
            <a:off x="4648320" y="213372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 tan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tty est la tante de B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tty est la tante de Maggie et de Li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tty est la sœur de Mar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tty 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as d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fa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tty 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as de mar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6" descr=""/>
          <p:cNvPicPr/>
          <p:nvPr/>
        </p:nvPicPr>
        <p:blipFill>
          <a:blip r:embed="rId1"/>
          <a:stretch/>
        </p:blipFill>
        <p:spPr>
          <a:xfrm>
            <a:off x="1455840" y="1981080"/>
            <a:ext cx="22683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 tan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ma est la tante de B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ma est la tante de Magg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ma est la tante de Li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ma est la sœur de Ma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ma est la mere de 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6" descr=""/>
          <p:cNvPicPr/>
          <p:nvPr/>
        </p:nvPicPr>
        <p:blipFill>
          <a:blip r:embed="rId1"/>
          <a:stretch/>
        </p:blipFill>
        <p:spPr>
          <a:xfrm>
            <a:off x="685800" y="213372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 cous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g est la cousine de B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g est la cousine de Magg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g est la cousine de Li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g, Maggie et Lisa sont des cous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7" descr=""/>
          <p:cNvPicPr/>
          <p:nvPr/>
        </p:nvPicPr>
        <p:blipFill>
          <a:blip r:embed="rId1"/>
          <a:stretch/>
        </p:blipFill>
        <p:spPr>
          <a:xfrm>
            <a:off x="4648320" y="213372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 cous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rt Simpson est le cousin de 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 pauvre, Bart a des sœurs et une cousine, mais il 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as de cous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6" descr=""/>
          <p:cNvPicPr/>
          <p:nvPr/>
        </p:nvPicPr>
        <p:blipFill>
          <a:blip r:embed="rId1"/>
          <a:stretch/>
        </p:blipFill>
        <p:spPr>
          <a:xfrm>
            <a:off x="685800" y="3460680"/>
            <a:ext cx="2666880" cy="20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 grand-m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le 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elle Mona Simp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6" descr=""/>
          <p:cNvPicPr/>
          <p:nvPr/>
        </p:nvPicPr>
        <p:blipFill>
          <a:blip r:embed="rId1"/>
          <a:stretch/>
        </p:blipFill>
        <p:spPr>
          <a:xfrm>
            <a:off x="762120" y="213372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 neve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rt est le neveu de Pat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rt est le neveu de Sel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rt est le neveu de Herb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7" descr=""/>
          <p:cNvPicPr/>
          <p:nvPr/>
        </p:nvPicPr>
        <p:blipFill>
          <a:blip r:embed="rId1"/>
          <a:stretch/>
        </p:blipFill>
        <p:spPr>
          <a:xfrm>
            <a:off x="4648320" y="2813040"/>
            <a:ext cx="380988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 nie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ggie est la niece de Pat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ggie est la niece de Sel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urquoi?  Parce que Selma et Patty sont les sœurs de Marge, la mere de Maggi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6" descr=""/>
          <p:cNvPicPr/>
          <p:nvPr/>
        </p:nvPicPr>
        <p:blipFill>
          <a:blip r:embed="rId1"/>
          <a:stretch/>
        </p:blipFill>
        <p:spPr>
          <a:xfrm>
            <a:off x="685800" y="2981160"/>
            <a:ext cx="3809880" cy="21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 béb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i est le bébé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ggie est le béb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g est un bébé auss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6" descr=""/>
          <p:cNvPicPr/>
          <p:nvPr/>
        </p:nvPicPr>
        <p:blipFill>
          <a:blip r:embed="rId1"/>
          <a:stretch/>
        </p:blipFill>
        <p:spPr>
          <a:xfrm>
            <a:off x="685800" y="2657520"/>
            <a:ext cx="3429000" cy="24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s petits-enfa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i sont les petits-enfants de Clancy et Jackie Bouvi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rt, Lisa, Maggie et Ling sont les petits-enfants de Clancy et Jack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6" descr=""/>
          <p:cNvPicPr/>
          <p:nvPr/>
        </p:nvPicPr>
        <p:blipFill>
          <a:blip r:embed="rId1"/>
          <a:stretch/>
        </p:blipFill>
        <p:spPr>
          <a:xfrm>
            <a:off x="685800" y="2611440"/>
            <a:ext cx="3809880" cy="28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 chien et le chat de la famil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e est le chien de la fami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famille a un chien auss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 chat 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elle Snowb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6" descr=""/>
          <p:cNvPicPr/>
          <p:nvPr/>
        </p:nvPicPr>
        <p:blipFill>
          <a:blip r:embed="rId1"/>
          <a:stretch/>
        </p:blipFill>
        <p:spPr>
          <a:xfrm>
            <a:off x="685800" y="2668680"/>
            <a:ext cx="3809880" cy="27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 famille Simps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693396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 une assez petite famil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 une tres étrange famill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5" descr=""/>
          <p:cNvPicPr/>
          <p:nvPr/>
        </p:nvPicPr>
        <p:blipFill>
          <a:blip r:embed="rId1"/>
          <a:stretch/>
        </p:blipFill>
        <p:spPr>
          <a:xfrm>
            <a:off x="2286000" y="3127320"/>
            <a:ext cx="3886200" cy="32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 grand-per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l 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elle Abe Simp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5" descr=""/>
          <p:cNvPicPr/>
          <p:nvPr/>
        </p:nvPicPr>
        <p:blipFill>
          <a:blip r:embed="rId1"/>
          <a:stretch/>
        </p:blipFill>
        <p:spPr>
          <a:xfrm>
            <a:off x="1444680" y="1981080"/>
            <a:ext cx="22906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 grand-m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le 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elle Jackie Bouv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6" descr=""/>
          <p:cNvPicPr/>
          <p:nvPr/>
        </p:nvPicPr>
        <p:blipFill>
          <a:blip r:embed="rId1"/>
          <a:stretch/>
        </p:blipFill>
        <p:spPr>
          <a:xfrm>
            <a:off x="685800" y="213372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 grand-p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l 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elle Clancy Bouv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6" descr=""/>
          <p:cNvPicPr/>
          <p:nvPr/>
        </p:nvPicPr>
        <p:blipFill>
          <a:blip r:embed="rId1"/>
          <a:stretch/>
        </p:blipFill>
        <p:spPr>
          <a:xfrm>
            <a:off x="685800" y="213372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s grands-par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e et Mona sont les grands-parents de B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e est le mari de Mo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na est la femme de A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e et Mona sont les parents de Hom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5" descr=""/>
          <p:cNvPicPr/>
          <p:nvPr/>
        </p:nvPicPr>
        <p:blipFill>
          <a:blip r:embed="rId1"/>
          <a:stretch/>
        </p:blipFill>
        <p:spPr>
          <a:xfrm>
            <a:off x="4648320" y="2611440"/>
            <a:ext cx="3809880" cy="28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s grands-par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ncy et Jackie Bouvier sont les grands-parents de Bart aus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ncy est le mari de Jack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ckie est la femme de Cla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ncy et Jackie sont les parents de Ma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7" descr=""/>
          <p:cNvPicPr/>
          <p:nvPr/>
        </p:nvPicPr>
        <p:blipFill>
          <a:blip r:embed="rId1"/>
          <a:stretch/>
        </p:blipFill>
        <p:spPr>
          <a:xfrm>
            <a:off x="4648320" y="2514600"/>
            <a:ext cx="3276360" cy="26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 p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l 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elle Homer Simp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6" descr=""/>
          <p:cNvPicPr/>
          <p:nvPr/>
        </p:nvPicPr>
        <p:blipFill>
          <a:blip r:embed="rId1"/>
          <a:stretch/>
        </p:blipFill>
        <p:spPr>
          <a:xfrm>
            <a:off x="1312920" y="1981080"/>
            <a:ext cx="25556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 m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le 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elle Marge Simp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6" descr=""/>
          <p:cNvPicPr/>
          <p:nvPr/>
        </p:nvPicPr>
        <p:blipFill>
          <a:blip r:embed="rId1"/>
          <a:stretch/>
        </p:blipFill>
        <p:spPr>
          <a:xfrm>
            <a:off x="1467000" y="1981080"/>
            <a:ext cx="22460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2T06:08:12Z</dcterms:created>
  <dc:creator>David Chapman</dc:creator>
  <dc:description/>
  <dc:language>en-US</dc:language>
  <cp:lastModifiedBy>John Chapman</cp:lastModifiedBy>
  <dcterms:modified xsi:type="dcterms:W3CDTF">2011-04-12T14:39:43Z</dcterms:modified>
  <cp:revision>6</cp:revision>
  <dc:subject/>
  <dc:title>LA FAMILIA ARBOL GENEALOGICO DE LA FAMILIA SIMPSON</dc:title>
</cp:coreProperties>
</file>